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BE9-B442-402C-A35A-210D0E4B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501-D608-432B-9638-A201598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4A2-54D6-4F01-9492-E1ED93D7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E25-CE7D-4E87-927D-F96618E4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4BD-B692-4C1D-B009-51571BD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2A2-9EFD-4511-A90B-6AEFDE1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473-8D9F-446D-8A2F-08EF50D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DAF-E17D-4C9A-B15B-F568F7FB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5CD-8AFF-48A5-9702-BD41674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686-4600-4877-ACE4-0660258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543-B2F5-49FF-A9BB-CCD2853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5F4-8E34-4F9F-89D9-C5D0FD8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CC41-E0E5-4CA3-8C8F-AAB383AA0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04240" y="228240"/>
            <a:ext cx="343584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六单元  碳和碳的氧化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28600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氧化碳的实验室制取与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143000"/>
            <a:ext cx="7848720" cy="43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二、进行实验、收集证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动手操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制取并检验和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熄灭燃着的阶梯蜡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塑料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探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否与水反应。是什么粒子使石蕊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证明碳酸不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grayscl/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1963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三、解释或讨论、反思与评价、表达与交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小组汇报实验结果、存在问题教师点拨）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3429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235872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验活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氧化碳的实验室制取与性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实验室制取二氧化碳的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实验装置的确定和实验步骤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验证二氧化碳的性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81280" y="152280"/>
            <a:ext cx="20574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板书设计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80880" y="2514600"/>
            <a:ext cx="31244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2819520"/>
            <a:ext cx="769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室制取二氧化碳的反应原理和操作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447920"/>
            <a:ext cx="2210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学重难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377000"/>
            <a:ext cx="80010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一、针对问题、猜想与假设、制订计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小组合作交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验室用什么药品制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反应物的状态？反应方程式？能否用浓盐酸或稀硫酸代替稀盐酸制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验室制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什么仪器？如何检查装置的气密性？先加固体还是先加酸液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0" y="8380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制取二氧化碳的装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1424160"/>
            <a:ext cx="800100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什么方法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何检验制得的气体是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怎样验满？此法利用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什么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1454760"/>
            <a:ext cx="8001000" cy="224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倒入内有燃着的阶梯蜡烛的烧杯中，会看到什么现象？说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不用排水法？如何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53352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问题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实验演示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108800"/>
            <a:ext cx="8001000" cy="35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.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水会不会跟水反应？如何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跟水反应？碳酸稳定吗？用实验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什么粒子使石蕊变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还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1240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657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41911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8200" cy="316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38080" y="83808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氧化碳与水的反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lin</cp:lastModifiedBy>
  <dcterms:modified xsi:type="dcterms:W3CDTF">2015-03-26T05:06:18Z</dcterms:modified>
  <cp:revision>2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